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A87-F5E6-481B-9D14-E316AB3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22-B685-493B-B74A-A1553B3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E25-5AC6-485F-897F-BDF345E3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2A3-CDE7-413F-9C07-9275EDE3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292-808E-4268-8312-1CFA96A8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84A-2400-4334-9244-0A71594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C6E-6BD0-4237-BFAC-2D84152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723-54E9-40A8-90EC-50321F0C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05B-4BF9-416F-803A-E13EFC74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CB1-A4C4-404E-8773-B6C8766E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906-F719-4C20-B56E-9B90265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9BA-A656-4345-AEAC-04C0A87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6100-B384-49AD-B549-97C8D183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5, 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Bible describe Abs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amily did he have at this p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help did Absalom seek in getting David to see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rastic action did he take to accomplish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Absalom set out to do during the next four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0666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handsome; no blemishes; cut his hair once a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1337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ons; one daughter (Tamar, named after his s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4197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first, Joab ignored him but Absalom had his servants set Joab’ fields on fire to get his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0958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 the hearts of the people from David over to Abs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mise did he make to all who came to him with compla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xcuse did Absalom use to secure David’s permission to go to Heb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what his actual purpose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alom succeeded in getting ___________ to join his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n had been one of David’s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962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ince the people to make him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4572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ithop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6680" y="556272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ed counse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that he had made a vow while in Geshur that he would worship God in Heb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716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were king, I would solve all of your proble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David do when news came to him about Absalom’s conspi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was surprised when a group of _________ men from ___________, with their leader, __________, wanted to go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, ___________, and the __________ came to join David, bringing the _______ of the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David’s instruction to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2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eft the city and headed to the East – beyond the Jordan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791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the city; if the Lord favored him, he would see it again; if He was not pleased, let Him do to me what He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09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d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at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572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362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74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533520"/>
            <a:ext cx="81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the priests be of more help to David by returning to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David ask God to do concerning the counsel of Ahithoph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was another of David’s counse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names of several people who were involved in David’s “spy syst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3716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ould spy on Absalom and keep David informed through the priests’ sons, Ahimaaz and Jona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the counsel of Ahithophel to foolis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s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4100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dok, Abiathar and their sons along with Hus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04:06:53Z</dcterms:created>
  <dc:creator>Frank D Vines</dc:creator>
  <dc:description/>
  <dc:language>en-US</dc:language>
  <cp:lastModifiedBy>Frank D Vines</cp:lastModifiedBy>
  <dcterms:modified xsi:type="dcterms:W3CDTF">2005-07-10T03:54:08Z</dcterms:modified>
  <cp:revision>19</cp:revision>
  <dc:subject/>
  <dc:title>Slide 1</dc:title>
</cp:coreProperties>
</file>